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52D-DE61-4DE8-B334-16988E41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95A-11E5-49E5-BF4B-7499B02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722E-041E-4C46-A844-1076FAB2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A1E-2BC5-4C4A-8911-E6A81E35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6C67-565C-4563-9FCE-B69440E6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A30-CF90-4930-904B-DE4E022E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097-2F95-49CD-B2EE-4D87B56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FE5-7A60-4084-93E3-B7B896B8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AB98-0AB3-4C4D-BEED-52CFE28D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221F-B7DB-45A2-B77F-289144F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791C-EEC4-4956-8C18-5FB96A7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CCB-2FC0-4897-8C41-092AC6F7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4AEE-E5F1-449E-BE3D-01EEBB8F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D134-AECE-4E85-95B6-EC43265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00A1-FD25-4937-9346-6F39FE6D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2C27-3A3D-4973-AA06-D3D79D28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711-DF78-4345-B42F-AF83F726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B89F-7C01-47D6-B3C2-2474D458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B88D-8345-430F-9D4D-A581770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EE77-F462-4998-AAB6-C0721C54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5C34-3908-4C71-925A-41EA6E1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9057-51DA-4DCE-B442-84B13A5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E7B-F1DB-4653-8700-10B11EB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F108-34E3-4B33-A822-2F44E1DE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7F1A-9899-42E8-BC35-F5242D84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6436-0511-454B-97CE-D736260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A4BF-AB17-4B4A-BCF0-CF849373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0EC4-8E09-4873-8675-73C084D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5E06-7615-4756-AC6C-3F618A7A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A866-9B8F-4691-80FB-61BAF445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760B-DBF3-43F6-BEFF-BF767AF0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5195-7822-4C8A-A5E8-33E0AB8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F8C8-4290-4FF7-99CF-4AD5D59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6DC-CB2B-4013-B512-3A7DF1F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037A-59A7-44E8-8D8A-74DB6440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B0DF0-04A6-4491-ADBB-73C2AEE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AEA3-D615-4645-AAB3-6C5559F8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7D91-5CA0-49A2-B432-CA400D2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A123-EE4B-45EC-87BE-B42C0E0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5818C-F600-438B-8C66-0A54346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5038-5BE8-4885-B645-E22B247C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D5EE-0670-4AAA-9E77-F1297B82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CAB3-903B-4923-AA1B-B72A7A5E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53DA7-DC06-470E-98EE-AA324C7E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637-1A2F-4F35-85F6-5374124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55ADC-F75E-4C27-9239-324C7F9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22BF0-DDEA-44CE-8643-6279012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D514-ADE2-45F2-94A4-67903B5C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3528F-4F91-4197-A52A-16847981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42D3-0CA0-4183-9EFA-EBAD7EF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B03F6-F627-4AFD-80B7-E86B55AF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A1C2-85CA-4B34-A7AF-E2BFA0F9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1A64-56FF-4910-9396-599ACB0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B805-76F3-4D97-9713-53CFA87F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2582-E3CA-495E-A48A-36C9D9B2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D4A-A957-4F60-B708-136A880E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5CD6-01F5-43E1-81E5-9B5EE06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507-7E58-4778-9748-23E2FDB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730-98B8-469A-AAD9-DCD39343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51F-8A98-426C-945C-D73B1E5C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B17F-A9E4-42F4-8CE5-2910D66DA58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FD42-AEE7-4135-BDE5-266402CB2D5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53AA-D61F-4CB8-AB84-F44C470A09C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55D-C5BD-461C-A09B-E3B49ED0BFA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0D1-E335-4556-A719-24C58D46FEB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hr.wikipedia.org/wiki/Neverbalna_komunikacija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1835280" y="3124080"/>
            <a:ext cx="5545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Times New Roman"/>
              </a:rPr>
              <a:t>1</a:t>
            </a:r>
            <a:r>
              <a:rPr b="1" lang="sr-RS" sz="2200" spc="-1" strike="noStrike">
                <a:solidFill>
                  <a:srgbClr val="b13f9a"/>
                </a:solidFill>
                <a:latin typeface="Times New Roman"/>
              </a:rPr>
              <a:t>2</a:t>
            </a:r>
            <a:r>
              <a:rPr b="1" lang="sr-CS" sz="2200" spc="-1" strike="noStrike">
                <a:solidFill>
                  <a:srgbClr val="b13f9a"/>
                </a:solidFill>
                <a:latin typeface="Times New Roman"/>
              </a:rPr>
              <a:t>. наставна јединица (дванаеста недељ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Вештина комуникације са особама са менталним поремећај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Циљ едукације у овој области је повећање знања о овим болестима, о савремним класификационим системима, клинички веродостојан опис психијатријских поремећаја као и реалистична терапијска очекивањ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чење вештини комуницирања са оболелим од менталнеог поремећаја је у својој суштини исто као и у интерној медицини, на пример. </a:t>
            </a:r>
            <a:r>
              <a:rPr b="0" i="1" lang="en-US" sz="2600" spc="-1" strike="noStrike">
                <a:solidFill>
                  <a:srgbClr val="b13f9a"/>
                </a:solidFill>
                <a:latin typeface="Trebuchet MS"/>
              </a:rPr>
              <a:t>Али, практично, то је мало другач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удент може послушати рад срца или дисање код свог колеге, па то применити на пацијенту. Учење психијатријске пропедевтике не тече на исти начин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 тог разлога, може да помогне посматрање интеракције (roll play), пре него што се крене у разговор са пацијенто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нимање интервјуа међу студентима и анализа истог може бити добра вежба у учењу комуникацијских вешти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49160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 осећају се увек сигурно док причају са психијатријским пацијентима- не у интелектуалном већ више у базичном осећају сигур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глед психијатријског пацијента (бескућник, алкохолисан, доведен са улице у Ургентни центар)...нема комуникације... Општа маргинализација психијатријских пацијената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49160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јава секундарних менталних симптома код пацијента, врло брзо укључује позивање психијатра, студенти се “склањају” од таквог пацијен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 обраћа се довољно пажње повратној информацији пацијента како он види интервју у коме је учествова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 ради се на техникама успешне комуникациј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Не говори се довољно о бољим терапијским могућностима менталних поремећај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шта маргинализација психијатријских пацијената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ацијенти у маничној фази болести имају лошу пажњу и због тога тешко прате сложене инструк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 тог разлога, комуникација треба да буде јасна, језик једноставан, са подсећањем пацијента да понови оно што је важно како би боље запамти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дсетници о важним детаљима, ако је пацијент на одељењу, такође могу да помогну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споставите везу са пацијен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дставите 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удите љубаз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ако год да је пацијент узбуђен, осетиће ако сте ту стварно за њега и да вам може верова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ити присутан значи да вас пацијент заиста интересује. То и маничном и депресивном пацијенту једнако значи иако они имају различите потреб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ојим поступцима, покажите да је пацијент (маничан или депресиван) важна особа и да има наде- супротно од конфузности, безвредности, безнађа и песимизма у коме се пацијент налази. Ако то побуди жељу пацијента да комуницира, охрабрите га да настав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ставите разумна ограничења за маничног пацијента и јасно дефинишите очекивања од депресивног пацијнета уз обавезно уважавање пацијена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удите 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аутентични, покажите емпатију, позитивно охрабривање и топлину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k to provide the basic human needs identified by Maslow (1968): life/survival, safety/security, belonging/affection, respect/self-respect, and self-actual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фиксана комуникација са схизофреним пацијентом је посебно важна зато што се они тако лако преплаве стимулусима из спољашње средин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бра комуникација може значајно допринети да пацијент и његова породица постану успешни у свакодневним активностим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бра комуникација укључуј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Знати КАДА комуници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Знати О ЧЕМУ комуницира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Знати КАКО комуницира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с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зме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нформ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ко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говорен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исте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знако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муникација се обично описује према 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главне димензије: садржају, форми и циљу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једно, садржај и форма комуникације креирају </a:t>
            </a:r>
            <a:r>
              <a:rPr b="0" i="1" lang="en-US" sz="2600" spc="-1" strike="noStrike">
                <a:solidFill>
                  <a:srgbClr val="a34b73"/>
                </a:solidFill>
                <a:latin typeface="Trebuchet MS"/>
              </a:rPr>
              <a:t>пору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које се шаљу према циљу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Циљ може бити сам човек, друга особа (у интерперсоналној комуникацији) или други ентитет попут групе, организације или друш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Content Placeholder 3" descr="Sender"/>
          <p:cNvPicPr/>
          <p:nvPr/>
        </p:nvPicPr>
        <p:blipFill>
          <a:blip r:embed="rId1"/>
          <a:stretch/>
        </p:blipFill>
        <p:spPr>
          <a:xfrm>
            <a:off x="847800" y="1006560"/>
            <a:ext cx="6308640" cy="85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Људска комуникација може бити вербална и невербална.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је комуникација коју појединац остварује </a:t>
            </a: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говоро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(и </a:t>
            </a: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писмо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као записом говора), а </a:t>
            </a:r>
            <a:r>
              <a:rPr b="1" lang="en-US" sz="2600" spc="-1" strike="noStrike">
                <a:solidFill>
                  <a:srgbClr val="00ff00"/>
                </a:solidFill>
                <a:latin typeface="Trebuchet MS"/>
              </a:rPr>
              <a:t>не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она коју остварује </a:t>
            </a:r>
            <a:r>
              <a:rPr b="0" lang="en-US" sz="2600" spc="-1" strike="noStrike">
                <a:solidFill>
                  <a:srgbClr val="00ff00"/>
                </a:solidFill>
                <a:latin typeface="Trebuchet MS"/>
              </a:rPr>
              <a:t>невербалним знаков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сновни комуникацијски ала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људске комуникације је </a:t>
            </a:r>
            <a:r>
              <a:rPr b="1" lang="en-US" sz="2600" spc="-1" strike="noStrike">
                <a:solidFill>
                  <a:srgbClr val="ffff00"/>
                </a:solidFill>
                <a:latin typeface="Trebuchet MS"/>
              </a:rPr>
              <a:t>језик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муникација је фундамнтална за све људске релa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су показала да је код сваке комуникације само </a:t>
            </a:r>
            <a:r>
              <a:rPr b="1" lang="en-U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7% вербалн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, 38% тон и боја гласа, а </a:t>
            </a:r>
            <a:r>
              <a:rPr b="1" lang="pl-PL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5%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евербалн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, з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еrov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„неизречен језик“ тела као и тон гласа постају много важнији него изговарање самих реч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Шта је сврха комуницирања? Слушати и бити саслушан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грешно разумевање се може појавити у сваком тренутк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сто не слушамо пажљиво оно што нам се говори и не разјаснимо увек значење оног што чујем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место тога, убацујемо своје интерпретације и своје схавтање оног што нам је речено, што све може бити врло различито од интенције нашег саговорник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узда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ктивно слуш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осуђивањ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важавање разлика у систему вре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етпостав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утентич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jor mental illness’’- најчешће подразумевамо- schizophreniju, паранодине поремећаје, друге неорганске психозе, афективне поремeћајe (дeпрeсија, биполарни афективни поремећај), анксиозне поремећаје (панични, опсесивно-компулзивни поремећај, агорафобија)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 психотичним поремећајима, постоје значајна ометања комуникације- дезорганизован говор, дезорганизовано понашање или кататони феномени, хaлуцинaциј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ма савременим смерницама, сваки лекар требало да се оспособи током школовања да дијагностикује, лечи, али и разуме и сложене потребе пацијената ове осетљиве попула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дукација студената вештини комуницирања са особама које болују од менталних пормећаја, значајно ће допринети квалитету третмана ове вулнерабилне попула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DF</dc:creator>
  <dc:description/>
  <dc:language>en-US</dc:language>
  <cp:lastModifiedBy>Milanče Sin</cp:lastModifiedBy>
  <dcterms:modified xsi:type="dcterms:W3CDTF">2023-02-04T20:03:47Z</dcterms:modified>
  <cp:revision>23</cp:revision>
  <dc:subject/>
  <dc:title>ВЕШТИНА КОМУНИКАЦИЈЕ СА ОСОБАМА СА МЕНТАЛНИМ ПОРЕМЕЋАЈИМА. КОМУНИКАЦИЈА СА ГЕРИЈАТРИЈСКОМ ПОПУЛАЦИЈОМ</dc:title>
</cp:coreProperties>
</file>